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02C-88F1-46BE-8F0C-24A02E64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E92-7058-4737-95A6-6D0738C9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7ED-D58A-4016-8862-88D969C8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41E-D46D-4717-AEF9-119A0994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E9E3-565A-4338-BC5E-17F685A9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AAE2-563D-42C8-B039-49A197F4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49DC-9AB7-42B4-8452-D6B50525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3F30-CCEE-42E4-97FB-4BA2E92C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20D0-BEF3-4BC9-95D4-047AD54E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1274-484F-4965-AC3F-88C8F33E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6339-5F4E-42CF-9FA1-AB93C85D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088-1579-4271-B22E-76C73D9B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41EE-62FA-4624-8AED-A18FD443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B631-1AFF-45E7-823F-FDA6360D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AF15-3091-42B3-A9A3-6B0BC11C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B52E-7436-4685-A808-BFFE9410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E580-D5CF-4DB3-A467-4FCA0EFC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46E67-13A1-47CF-AA5A-3F15674F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D5DFA-6252-474C-9164-F9A0631A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3C7EA-103D-409C-A545-058A1240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957DA-22B0-4AC6-BF0D-B58E6F45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EA9B3-2E19-41D2-8679-F6A20AB1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3ACA-E8BC-4BE2-A49C-F326E3AE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D284D-110A-4C15-94C9-A41958E6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71B2B-7F6C-4AB2-A389-E972A450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4F42B-2F5C-4320-99E0-E8D70942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B77BC-F329-4A10-83D3-B09E2367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587A5-AE7C-4ECA-8918-540785DB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FFD71-3AA8-4B1B-97CD-71A410B4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4E615-D85D-4534-AA15-C5DDEAF6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0A656-8E41-4D45-AA70-F4B12745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AD1C2-1B2E-429E-915D-1ED7DEC5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080CC-9A0B-4516-9023-93E065E3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F2A-E0EB-4AA0-91FE-EF6542D3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F20D8-C8B6-4B54-B8DC-21F20C18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60C4C-FB86-4F45-AEC8-7D2B37E7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6B237-2B8D-49D5-8EB4-BAB05FAE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73924-6244-4A8A-A196-F89C559C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4151B-BA15-4E92-99CF-65A304A7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40673-9AC4-48E4-A73F-1F81BA94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DEF8A-B431-4207-9104-6218F228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F90AC-15EB-418C-98E0-8E288CB0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1995B-9642-4FFA-B9C4-A6B8EB72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4E47E-96F7-4EB0-A7C2-185BB06D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D47-5C55-4AC8-9F8F-C8D14A05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82C71-F1BC-4301-BAE1-A9FF66E2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403A7-8D2D-44B3-B008-53F5E404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F1D55-4E4C-4A10-9E40-2D99D65C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A0AE7-9041-4A0F-B095-E4AED143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FFC93-ACE0-4523-A3ED-26411E49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43ACF-E64E-4E28-9FE0-E3684EB0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81C96-CF98-4526-A760-2EF63F63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D97FE-B800-4334-94FB-370C744D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4A1B6-27C8-46F3-AC8F-B01BAE13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BB777-EF55-4479-8EC8-1EF8F10C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A38-C972-4937-B9C5-B6EB01FB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0EDA0-45DD-42F5-B964-4251C9AC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9F0-2568-488C-916D-E1FD769D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7ABC-99BB-4059-9933-2EB35578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18C-180E-4484-A043-9B4B7C24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3CC5-73A5-463E-B32D-05028AD16D7F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0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95E9-2EFE-4C3F-8839-1EDF60EA709D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C2C7-80E7-4716-A66E-181774E82A41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03A7-64C3-4107-B8FB-B70F30C2B0FB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46D5-A0C8-40F4-A543-D1DED713191C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39520" y="914400"/>
            <a:ext cx="6946920" cy="348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orbel"/>
              </a:rPr>
              <a:t>BUSINESS LETTER WRITING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ACF6-47E7-45B5-8276-DD2DE974DD83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1547640" y="360360"/>
            <a:ext cx="7139160" cy="1182600"/>
          </a:xfrm>
          <a:prstGeom prst="rect">
            <a:avLst/>
          </a:prstGeom>
          <a:ln w="0">
            <a:noFill/>
          </a:ln>
        </p:spPr>
      </p:pic>
      <p:grpSp>
        <p:nvGrpSpPr>
          <p:cNvPr id="277" name="Содержимое 2"/>
          <p:cNvGrpSpPr/>
          <p:nvPr/>
        </p:nvGrpSpPr>
        <p:grpSpPr>
          <a:xfrm>
            <a:off x="523800" y="1200240"/>
            <a:ext cx="8583840" cy="5449680"/>
            <a:chOff x="523800" y="1200240"/>
            <a:chExt cx="8583840" cy="5449680"/>
          </a:xfrm>
        </p:grpSpPr>
        <p:pic>
          <p:nvPicPr>
            <p:cNvPr id="278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523800" y="1200240"/>
              <a:ext cx="8583840" cy="54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609480" y="1285920"/>
              <a:ext cx="8415360" cy="52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425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                              </a:t>
              </a:r>
              <a:r>
                <a:rPr b="1" lang="ru-RU" sz="1700" spc="-1" strike="noStrike">
                  <a:solidFill>
                    <a:srgbClr val="000000"/>
                  </a:solidFill>
                  <a:latin typeface="Corbe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    </a:t>
              </a: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Corbel"/>
                </a:rPr>
                <a:t>   </a:t>
              </a: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Corbel"/>
                </a:rPr>
                <a:t>LETTER   OF   APPLIC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25"/>
                </a:spcBef>
                <a:spcAft>
                  <a:spcPts val="601"/>
                </a:spcAft>
                <a:buClr>
                  <a:srgbClr val="1287c3"/>
                </a:buClr>
                <a:buSzPct val="145000"/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25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700" spc="-1" strike="noStrike" u="sng">
                  <a:solidFill>
                    <a:srgbClr val="000000"/>
                  </a:solidFill>
                  <a:uFillTx/>
                  <a:latin typeface="Corbel"/>
                </a:rPr>
                <a:t> </a:t>
              </a: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Corbel"/>
                </a:rPr>
                <a:t>Greeting</a:t>
              </a: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                        name unknown: 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Dear Sir/Mada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25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                                     </a:t>
              </a:r>
              <a:r>
                <a:rPr b="0" lang="ru-RU" sz="1700" spc="-1" strike="noStrike">
                  <a:solidFill>
                    <a:srgbClr val="000000"/>
                  </a:solidFill>
                  <a:latin typeface="Corbel"/>
                </a:rPr>
                <a:t>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name known: 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Dear Mr../Dear Mrs../Dear Ms +</a:t>
              </a: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nam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25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Corbel"/>
                </a:rPr>
                <a:t>Reason for writing</a:t>
              </a: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      </a:t>
              </a:r>
              <a:r>
                <a:rPr b="0" lang="ru-RU" sz="17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I am writing to apply for the post/position of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25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                                      </a:t>
              </a:r>
              <a:r>
                <a:rPr b="1" lang="ru-RU" sz="1700" spc="-1" strike="noStrike">
                  <a:solidFill>
                    <a:srgbClr val="000000"/>
                  </a:solidFill>
                  <a:latin typeface="Corbel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I am writing with reference to your advertisement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25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                                      </a:t>
              </a:r>
              <a:r>
                <a:rPr b="1" lang="ru-RU" sz="17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which I saw…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25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Corbel"/>
                </a:rPr>
                <a:t>Your experience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         </a:t>
              </a:r>
              <a:r>
                <a:rPr b="1" lang="ru-RU" sz="17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 I gained some experience…My qualification include.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25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Corbel"/>
                </a:rPr>
                <a:t>CV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                                  </a:t>
              </a:r>
              <a:r>
                <a:rPr b="1" lang="ru-RU" sz="17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 Please find attached my CV…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25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Corbel"/>
                </a:rPr>
                <a:t>Closing expressions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    I look forward to hearing from you. Please do not 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           </a:t>
              </a:r>
              <a:r>
                <a:rPr b="1" lang="ru-RU" sz="1700" spc="-1" strike="noStrike">
                  <a:solidFill>
                    <a:srgbClr val="000000"/>
                  </a:solidFill>
                  <a:latin typeface="Corbel"/>
                </a:rPr>
                <a:t>      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 hesitate to contact me if…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25"/>
                </a:spcBef>
                <a:spcAft>
                  <a:spcPts val="601"/>
                </a:spcAft>
                <a:buClr>
                  <a:srgbClr val="1287c3"/>
                </a:buClr>
                <a:buSzPct val="145000"/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25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Corbel"/>
                </a:rPr>
                <a:t>Signing off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                  </a:t>
              </a:r>
              <a:r>
                <a:rPr b="1" lang="ru-RU" sz="17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  </a:t>
              </a: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if Dear=name: 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Your sincerely, </a:t>
              </a: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if Dear Sir/Madam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25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                                  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Yours faithfully, </a:t>
              </a: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Dear+=name: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Your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25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Corbel"/>
                </a:rPr>
                <a:t>Name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                        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your first name + surnam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OPTIONAL PARTS OF A LETTE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ttention Lin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dentification Lin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nclosu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arbon Copi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D4B4-A86E-4D11-A53F-1EB5C207C797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TYPES OF LETTE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2193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rbel"/>
              </a:rPr>
              <a:t>Formal Letter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 Tone is formal such as Business Lett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rbel"/>
              </a:rPr>
              <a:t>Semi-Formal Letters.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Tone and style is formal and meant for relatives. Invitation Lett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rbel"/>
              </a:rPr>
              <a:t>Informal Letter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 Tone and style is relaxed. It is written to relatives, friends, etc. Friendly letters do not require an inside address and the writer’s printed name. Closing is also inform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rbel"/>
              </a:rPr>
              <a:t>Form Letters.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Preprinted. Administration form, Application Form, etc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2903-0EE8-4280-A53B-E3E374018ED0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BUSINESS LETT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907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business letter is a written communication addressed </a:t>
            </a:r>
            <a:r>
              <a:rPr b="0" lang="en-US" sz="2400" spc="-1" strike="noStrike">
                <a:solidFill>
                  <a:srgbClr val="ff3300"/>
                </a:solidFill>
                <a:latin typeface="Corbel"/>
              </a:rPr>
              <a:t>to a person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or organization, </a:t>
            </a:r>
            <a:r>
              <a:rPr b="0" lang="en-US" sz="2400" spc="-1" strike="noStrike">
                <a:solidFill>
                  <a:srgbClr val="ff3300"/>
                </a:solidFill>
                <a:latin typeface="Corbel"/>
              </a:rPr>
              <a:t>by a person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or organization for specific business purpo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6E5A-505C-4B5F-A26F-47F7BBC199E1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TYPES OF BUSINESS LETT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pplication lett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mplaint lett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quest lett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rder lett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ales lett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11FD-8102-4C0F-9F29-6856CBC23B95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PURPOSES OF BUSINESS LETT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questing and providing information. (Information, Sales Covering Letters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rdering goods or services. (Order Letters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cknowledging the order. (Acknowledgment Letter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nfirming information or arrangement. (Confirmation Letter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xpressing thanks or congratulations. (Good News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nveying bad news. (Bad news, messages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5AB9-AD04-4117-9871-E4D3C69C045B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PURPOSES OF BUSINESS LETTERS (Continued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 startAt="7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mplaining about the products or services. (</a:t>
            </a:r>
            <a:r>
              <a:rPr b="0" lang="en-US" sz="2400" spc="-1" strike="noStrike">
                <a:solidFill>
                  <a:srgbClr val="ff3300"/>
                </a:solidFill>
                <a:latin typeface="Corbel"/>
              </a:rPr>
              <a:t>Complaint Letter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 startAt="7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swering a complaint. (</a:t>
            </a:r>
            <a:r>
              <a:rPr b="0" lang="en-US" sz="2400" spc="-1" strike="noStrike">
                <a:solidFill>
                  <a:srgbClr val="ff3300"/>
                </a:solidFill>
                <a:latin typeface="Corbel"/>
              </a:rPr>
              <a:t>Adjustment Letter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 startAt="7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troduction and explaining products or services. (</a:t>
            </a:r>
            <a:r>
              <a:rPr b="0" lang="en-US" sz="2400" spc="-1" strike="noStrike">
                <a:solidFill>
                  <a:srgbClr val="ff3300"/>
                </a:solidFill>
                <a:latin typeface="Corbel"/>
              </a:rPr>
              <a:t>Purchase Covering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 startAt="7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commending someone for a job or post. (</a:t>
            </a:r>
            <a:r>
              <a:rPr b="0" lang="en-US" sz="2400" spc="-1" strike="noStrike">
                <a:solidFill>
                  <a:srgbClr val="ff3300"/>
                </a:solidFill>
                <a:latin typeface="Corbel"/>
              </a:rPr>
              <a:t>Recommendation Letter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 startAt="7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ersuading the receiver to do something. (</a:t>
            </a:r>
            <a:r>
              <a:rPr b="0" lang="en-US" sz="2400" spc="-1" strike="noStrike">
                <a:solidFill>
                  <a:srgbClr val="ff3300"/>
                </a:solidFill>
                <a:latin typeface="Corbel"/>
              </a:rPr>
              <a:t>Collection Letter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EE32-0529-4F59-A38A-0ABFEC676156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CHECK LIST FOR WRITING LETT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rbel"/>
              </a:rPr>
              <a:t>THINKING STEP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s situation a </a:t>
            </a:r>
            <a:r>
              <a:rPr b="0" lang="en-US" sz="2400" spc="-1" strike="noStrike">
                <a:solidFill>
                  <a:srgbClr val="ff3300"/>
                </a:solidFill>
                <a:latin typeface="Corbel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Corbel"/>
              </a:rPr>
              <a:t>issue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or </a:t>
            </a:r>
            <a:r>
              <a:rPr b="0" lang="en-US" sz="2400" spc="-1" strike="noStrike">
                <a:solidFill>
                  <a:srgbClr val="ff3300"/>
                </a:solidFill>
                <a:latin typeface="Corbel"/>
              </a:rPr>
              <a:t>opportunity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xpress as question. What are the most widely used business letter formats and their components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ave I produced ideas to solve the particular situation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ave I examined, checked for ethics, revised and selected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2681-884F-4878-8ECA-96E3F47C042E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CHECK LIST FOR WRITING LETTERS (Continued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Corbel"/>
              </a:rPr>
              <a:t>PLANNING STEP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unction of writing. Expressive/ Poetic/ Transactiona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nformative/ Ask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pecific function. Goodwill/Ac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Audience. Primary/Secondary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Main Idea. Focused/Diffuse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Organization Plan. Direct/Indirec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Pattern. Space/Time/Logic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14E8-1D73-46A1-B1A1-829A03DC19CC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CHECK LIST FOR WRITING LETTERS (Continued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38080" y="25142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ave I followed revision, rite and res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vision for Ideas/Style/Mechanic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s my main idea specific and have I provided all necessary details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ave I followed the rules of 7C’s?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mpleteness, Concreteness, Clarity, Conciseness, Coherence, Consideration and Courtesy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90B1-26D8-481F-BE7D-42F5CF4B3E39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LETTE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letter is a written or printed message addressed to a person or persons, usually sent by post or messeng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t is an addressed document of </a:t>
            </a:r>
            <a:r>
              <a:rPr b="0" lang="en-US" sz="2400" spc="-1" strike="noStrike">
                <a:solidFill>
                  <a:srgbClr val="ff3300"/>
                </a:solidFill>
                <a:latin typeface="Corbel"/>
              </a:rPr>
              <a:t>legal, formal or informal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kind for various purpos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E981-926D-4BF9-A788-B67FADA3DD95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ADDITIONAL CHECK LIST FOR LETTER WRITIN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id you type (or write) in a dateline to validate the letter as a record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id you place a comma after the Salutation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id you place a comma after the Complimentary Close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id you sign the letter below the Complimentary Close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id you initial or sign the memo to the right of your name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2FF2-1CCA-4CF3-8946-D21B3AE9633E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FORMATS OF BUSINESS LETT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ull Block Forma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mi-Block Forma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lock Forma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odified Block Forma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mplified Forma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emo Forma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B70A-F294-49DE-9194-0D57815BE9F0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FULL BLOCK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pen punctuation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egins from left sid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denting is not require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ne line is left between paragraph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83C4-05DA-4EB9-A3F6-35E6A272601E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SEMI-BLOCK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Less formal than Full Block Forma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dented paragraphs. (Five spaces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osed punctuatio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ate, Complimentary Close, Signatures, Name and Designation are on the right side of the margi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f Letter Head is not used the heading is on the right side of the margi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FD2F-7257-4C73-A46D-1B2D47681133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SEMI-BLOCK FORMAT (Continued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ference is in line with the date on the left side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cipient's address is on the left margi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bject line is written leaving usually five spac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bject line may include or omit the word subject. May or may not be underlined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E8D6-B145-41FD-BE36-FB956D9D715C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BLOCK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nindented paragraph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ate and Complimentary Close are on the right sid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ference is on left side in line with the da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side address, subject and enclosure are on left side of the margin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342D-FCD0-4DAC-BF13-FAF4BCAA4AB8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MODIFIED BLOCK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dentation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ouble space between paragraph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ate, Complimentary Close and Signatures are right of cent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side address, subject and enclosure are aligned to the left of margi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pen punctuatio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3B15-399F-4FF0-8136-826436B89E61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rbel"/>
              </a:rPr>
              <a:t>DIFFERENCE BETWEEN SEMI-BLOCK AND MODIFIED BLOCK FOR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mi-Block uses close punctuatation while Modified Block uses open punctuatio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 Modified Block form subject line is aligned to the left margin while is Semi-Block form Indentation is use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7FFF-D296-450B-8F1D-310680D41178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SIMPLIFIED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Unindented paragraph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alutation and Complimentary Close are omitte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ull Block Styl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Open punctuatatio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Not widely use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ubject Line is in Capital Case and the word subject is omitte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Printed Name is in Capital Cas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D33A-7ECC-45CA-8BA4-0DC11BD9ACBA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MEMO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ter-office, institutional or organizational communication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formal internal communicatio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rmal External Communicatio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r inter-office purposes, leave out the “Dear” Salutation and “Yours truly” Complimentary Close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itial the memo to the right of your nam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80F1-06F6-4E42-B220-850AB4516AFE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THINGS TO CONSIDER WHILE WRITING LETTE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o not offer misleading informatio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o not make promises which you do not have authority to keep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o not make untrue, damaging or allegation because a letter is a permanent record and proof of intentio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B0D9-9063-45F9-A1C0-7D3055B653A2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1695600" y="549360"/>
            <a:ext cx="6478560" cy="871560"/>
          </a:xfrm>
          <a:prstGeom prst="rect">
            <a:avLst/>
          </a:prstGeom>
          <a:ln w="0">
            <a:noFill/>
          </a:ln>
        </p:spPr>
      </p:pic>
      <p:grpSp>
        <p:nvGrpSpPr>
          <p:cNvPr id="338" name="Содержимое 2"/>
          <p:cNvGrpSpPr/>
          <p:nvPr/>
        </p:nvGrpSpPr>
        <p:grpSpPr>
          <a:xfrm>
            <a:off x="676440" y="1878120"/>
            <a:ext cx="8375400" cy="4260600"/>
            <a:chOff x="676440" y="1878120"/>
            <a:chExt cx="8375400" cy="4260600"/>
          </a:xfrm>
        </p:grpSpPr>
        <p:pic>
          <p:nvPicPr>
            <p:cNvPr id="339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676440" y="1878120"/>
              <a:ext cx="8375400" cy="42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838080" y="1905120"/>
              <a:ext cx="8153640" cy="41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lnSpc>
                  <a:spcPct val="80000"/>
                </a:lnSpc>
                <a:spcBef>
                  <a:spcPts val="476"/>
                </a:spcBef>
                <a:spcAft>
                  <a:spcPts val="601"/>
                </a:spcAft>
                <a:buClr>
                  <a:srgbClr val="1287c3"/>
                </a:buClr>
                <a:buSzPct val="145000"/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476"/>
                </a:spcBef>
                <a:spcAft>
                  <a:spcPts val="601"/>
                </a:spcAft>
                <a:buClr>
                  <a:srgbClr val="1287c3"/>
                </a:buClr>
                <a:buSzPct val="145000"/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rbel"/>
                </a:rPr>
                <a:t>Always check that your writing is consistent with your purpose. In your letter of application, check that: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476"/>
                </a:spcBef>
                <a:spcAft>
                  <a:spcPts val="601"/>
                </a:spcAft>
                <a:buClr>
                  <a:srgbClr val="1287c3"/>
                </a:buClr>
                <a:buSzPct val="145000"/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rbel"/>
                </a:rPr>
                <a:t>You have painted a good picture of yourself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476"/>
                </a:spcBef>
                <a:spcAft>
                  <a:spcPts val="601"/>
                </a:spcAft>
                <a:buClr>
                  <a:srgbClr val="1287c3"/>
                </a:buClr>
                <a:buSzPct val="145000"/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rbel"/>
                </a:rPr>
                <a:t>Dates, qualifications, experience are consisten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476"/>
                </a:spcBef>
                <a:spcAft>
                  <a:spcPts val="601"/>
                </a:spcAft>
                <a:buClr>
                  <a:srgbClr val="1287c3"/>
                </a:buClr>
                <a:buSzPct val="145000"/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rbel"/>
                </a:rPr>
                <a:t>There is no irrelevant information include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476"/>
                </a:spcBef>
                <a:spcAft>
                  <a:spcPts val="601"/>
                </a:spcAft>
                <a:buClr>
                  <a:srgbClr val="1287c3"/>
                </a:buClr>
                <a:buSzPct val="145000"/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rbel"/>
                </a:rPr>
                <a:t>It is easy for the reader to follow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476"/>
                </a:spcBef>
                <a:spcAft>
                  <a:spcPts val="601"/>
                </a:spcAft>
                <a:buClr>
                  <a:srgbClr val="1287c3"/>
                </a:buClr>
                <a:buSzPct val="145000"/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476"/>
                </a:spcBef>
                <a:spcAft>
                  <a:spcPts val="601"/>
                </a:spcAft>
                <a:buClr>
                  <a:srgbClr val="1287c3"/>
                </a:buClr>
                <a:buSzPct val="145000"/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476"/>
                </a:spcBef>
                <a:spcAft>
                  <a:spcPts val="601"/>
                </a:spcAft>
                <a:buClr>
                  <a:srgbClr val="1287c3"/>
                </a:buClr>
                <a:buSzPct val="145000"/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476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rbel"/>
                </a:rPr>
                <a:t>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Corbel"/>
                </a:rPr>
                <a:t>GOOD   LUCK !!!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8" descr="f3033fda2b8a"/>
          <p:cNvPicPr/>
          <p:nvPr/>
        </p:nvPicPr>
        <p:blipFill>
          <a:blip r:embed="rId3"/>
          <a:stretch/>
        </p:blipFill>
        <p:spPr>
          <a:xfrm>
            <a:off x="6516720" y="4076640"/>
            <a:ext cx="194472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C:\Users\11\Pictures\Новая папка\647d9c420556.png"/>
          <p:cNvPicPr/>
          <p:nvPr/>
        </p:nvPicPr>
        <p:blipFill>
          <a:blip r:embed="rId1"/>
          <a:stretch/>
        </p:blipFill>
        <p:spPr>
          <a:xfrm>
            <a:off x="2357280" y="4245120"/>
            <a:ext cx="3386160" cy="26128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928440" y="2214720"/>
            <a:ext cx="35686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1287c3"/>
                </a:solidFill>
                <a:uFillTx/>
                <a:latin typeface="Corbel"/>
              </a:rPr>
              <a:t>FORMAL STYLE IS APPROPRIAT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143680" y="2214720"/>
            <a:ext cx="37144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1287c3"/>
                </a:solidFill>
                <a:uFillTx/>
                <a:latin typeface="Corbel"/>
              </a:rPr>
              <a:t>INFORMAL STYLE IS APPRPOPRIAT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760" y="3071520"/>
            <a:ext cx="418608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composi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repo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tter to somebody you do not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know personall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stor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44720" y="300024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tter to your frien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n article for your school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gazin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Direct speech in a stor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9" name="Прямоугольник 9" descr=""/>
          <p:cNvPicPr/>
          <p:nvPr/>
        </p:nvPicPr>
        <p:blipFill>
          <a:blip r:embed="rId2"/>
          <a:stretch/>
        </p:blipFill>
        <p:spPr>
          <a:xfrm>
            <a:off x="646200" y="523800"/>
            <a:ext cx="828504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2000160" y="1714680"/>
            <a:ext cx="585792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Contraction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Corbel"/>
              </a:rPr>
              <a:t>                </a:t>
            </a:r>
            <a:r>
              <a:rPr b="0" lang="en-US" sz="1800" spc="-1" strike="noStrike">
                <a:solidFill>
                  <a:srgbClr val="990033"/>
                </a:solidFill>
                <a:latin typeface="Corbel"/>
              </a:rPr>
              <a:t>There’s something else I’ve got to tell you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Informal set phras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Corbel"/>
              </a:rPr>
              <a:t>                 </a:t>
            </a:r>
            <a:r>
              <a:rPr b="0" lang="en-US" sz="1800" spc="-1" strike="noStrike">
                <a:solidFill>
                  <a:srgbClr val="990033"/>
                </a:solidFill>
                <a:latin typeface="Corbel"/>
              </a:rPr>
              <a:t>Thank you for your let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Informal greetings in lett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Corbel"/>
              </a:rPr>
              <a:t>                  </a:t>
            </a:r>
            <a:r>
              <a:rPr b="0" lang="en-US" sz="1800" spc="-1" strike="noStrike">
                <a:solidFill>
                  <a:srgbClr val="990033"/>
                </a:solidFill>
                <a:latin typeface="Corbel"/>
              </a:rPr>
              <a:t>Dear  Sam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Incomplete senten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Corbel"/>
              </a:rPr>
              <a:t>                  </a:t>
            </a:r>
            <a:r>
              <a:rPr b="0" lang="en-US" sz="1800" spc="-1" strike="noStrike">
                <a:solidFill>
                  <a:srgbClr val="990033"/>
                </a:solidFill>
                <a:latin typeface="Corbel"/>
              </a:rPr>
              <a:t>Great news about your broth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Phrasal verb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Corbel"/>
              </a:rPr>
              <a:t>                  </a:t>
            </a:r>
            <a:r>
              <a:rPr b="0" lang="en-US" sz="1800" spc="-1" strike="noStrike">
                <a:solidFill>
                  <a:srgbClr val="990033"/>
                </a:solidFill>
                <a:latin typeface="Corbel"/>
              </a:rPr>
              <a:t>‘</a:t>
            </a:r>
            <a:r>
              <a:rPr b="0" lang="en-US" sz="1800" spc="-1" strike="noStrike">
                <a:solidFill>
                  <a:srgbClr val="990033"/>
                </a:solidFill>
                <a:latin typeface="Corbel"/>
              </a:rPr>
              <a:t>go on’ instead of continue’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Informal connecting word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Corbel"/>
              </a:rPr>
              <a:t>                  </a:t>
            </a:r>
            <a:r>
              <a:rPr b="0" lang="en-US" sz="1800" spc="-1" strike="noStrike">
                <a:solidFill>
                  <a:srgbClr val="990033"/>
                </a:solidFill>
                <a:latin typeface="Corbel"/>
              </a:rPr>
              <a:t>Well, I think that’s all I wanted to sa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1042920" y="0"/>
            <a:ext cx="7925040" cy="14144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838080" y="1447560"/>
            <a:ext cx="85536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rbel"/>
              </a:rPr>
              <a:t>No contractions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990033"/>
                </a:solidFill>
                <a:latin typeface="Corbel"/>
              </a:rPr>
              <a:t>            </a:t>
            </a:r>
            <a:r>
              <a:rPr b="0" lang="en-US" sz="1900" spc="-1" strike="noStrike">
                <a:solidFill>
                  <a:srgbClr val="990033"/>
                </a:solidFill>
                <a:latin typeface="Corbel"/>
              </a:rPr>
              <a:t>I do not think there is an excuse for the treatment I received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rbel"/>
              </a:rPr>
              <a:t>Formal set phrases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990033"/>
                </a:solidFill>
                <a:latin typeface="Corbel"/>
              </a:rPr>
              <a:t>            </a:t>
            </a:r>
            <a:r>
              <a:rPr b="0" lang="en-US" sz="1900" spc="-1" strike="noStrike">
                <a:solidFill>
                  <a:srgbClr val="990033"/>
                </a:solidFill>
                <a:latin typeface="Corbel"/>
              </a:rPr>
              <a:t>I look forward to hearing from you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rbel"/>
              </a:rPr>
              <a:t>Formal greetings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990033"/>
                </a:solidFill>
                <a:latin typeface="Corbel"/>
              </a:rPr>
              <a:t>            </a:t>
            </a:r>
            <a:r>
              <a:rPr b="0" lang="en-US" sz="1900" spc="-1" strike="noStrike">
                <a:solidFill>
                  <a:srgbClr val="990033"/>
                </a:solidFill>
                <a:latin typeface="Corbel"/>
              </a:rPr>
              <a:t>Dear Sir, Madam, Dear Mr/Mrs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rbel"/>
              </a:rPr>
              <a:t>Complete sentences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990033"/>
                </a:solidFill>
                <a:latin typeface="Corbel"/>
              </a:rPr>
              <a:t>            </a:t>
            </a:r>
            <a:r>
              <a:rPr b="0" lang="en-US" sz="1900" spc="-1" strike="noStrike">
                <a:solidFill>
                  <a:srgbClr val="990033"/>
                </a:solidFill>
                <a:latin typeface="Corbel"/>
              </a:rPr>
              <a:t>We should consider redoing the shop window display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rbel"/>
              </a:rPr>
              <a:t>Use of passive voice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en-US" sz="1900" spc="-1" strike="noStrike">
                <a:solidFill>
                  <a:srgbClr val="990033"/>
                </a:solidFill>
                <a:latin typeface="Corbel"/>
              </a:rPr>
              <a:t>The local sport centers were opened in the last ten years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rbel"/>
              </a:rPr>
              <a:t>Formal connecting words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990033"/>
                </a:solidFill>
                <a:latin typeface="Corbel"/>
              </a:rPr>
              <a:t>            </a:t>
            </a:r>
            <a:r>
              <a:rPr b="0" lang="en-US" sz="1900" spc="-1" strike="noStrike">
                <a:solidFill>
                  <a:srgbClr val="990033"/>
                </a:solidFill>
                <a:latin typeface="Corbel"/>
              </a:rPr>
              <a:t>In addition to this, many people feel that the police are underfunded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70436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rbel"/>
              </a:rPr>
              <a:t>STANDARAD ELEMENTS OF A LETTE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Letter Head/ Heading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Referenc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Dat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70000"/>
              </a:lnSpc>
              <a:spcBef>
                <a:spcPts val="374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Receiver’s Name and Address. </a:t>
            </a:r>
            <a:r>
              <a:rPr b="0" lang="en-US" sz="1500" spc="-1" strike="noStrike">
                <a:solidFill>
                  <a:srgbClr val="000000"/>
                </a:solidFill>
                <a:latin typeface="Corbel"/>
              </a:rPr>
              <a:t>(Inside Address)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alutatio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ubjec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Main Body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omplementary Clos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ignatur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ender’s Name and Designatio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825804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92D5-AF72-48B7-813E-89DDFE91A049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1401840" y="0"/>
            <a:ext cx="7284960" cy="1328760"/>
          </a:xfrm>
          <a:prstGeom prst="rect">
            <a:avLst/>
          </a:prstGeom>
          <a:ln w="0">
            <a:noFill/>
          </a:ln>
        </p:spPr>
      </p:pic>
      <p:grpSp>
        <p:nvGrpSpPr>
          <p:cNvPr id="268" name="Содержимое 2"/>
          <p:cNvGrpSpPr/>
          <p:nvPr/>
        </p:nvGrpSpPr>
        <p:grpSpPr>
          <a:xfrm>
            <a:off x="622440" y="1620720"/>
            <a:ext cx="8161200" cy="4803840"/>
            <a:chOff x="622440" y="1620720"/>
            <a:chExt cx="8161200" cy="4803840"/>
          </a:xfrm>
        </p:grpSpPr>
        <p:pic>
          <p:nvPicPr>
            <p:cNvPr id="269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622440" y="1620720"/>
              <a:ext cx="8161200" cy="48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714240" y="1714680"/>
              <a:ext cx="7972560" cy="46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476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en-US" sz="19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1" lang="en-US" sz="1900" spc="-1" strike="noStrike" u="sng">
                  <a:solidFill>
                    <a:srgbClr val="000000"/>
                  </a:solidFill>
                  <a:uFillTx/>
                  <a:latin typeface="Corbel"/>
                </a:rPr>
                <a:t>INFORMAL  LETTE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76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76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900" spc="-1" strike="noStrike" u="sng">
                  <a:solidFill>
                    <a:srgbClr val="000000"/>
                  </a:solidFill>
                  <a:uFillTx/>
                  <a:latin typeface="Corbel"/>
                </a:rPr>
                <a:t>Greetings   </a:t>
              </a:r>
              <a:r>
                <a:rPr b="0" lang="en-US" sz="1900" spc="-1" strike="noStrike">
                  <a:solidFill>
                    <a:srgbClr val="000000"/>
                  </a:solidFill>
                  <a:latin typeface="Corbel"/>
                </a:rPr>
                <a:t>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Corbel"/>
                </a:rPr>
                <a:t>Dear +</a:t>
              </a:r>
              <a:r>
                <a:rPr b="0" lang="en-US" sz="1900" spc="-1" strike="noStrike">
                  <a:solidFill>
                    <a:srgbClr val="000000"/>
                  </a:solidFill>
                  <a:latin typeface="Corbel"/>
                </a:rPr>
                <a:t> first nam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76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900" spc="-1" strike="noStrike" u="sng">
                  <a:solidFill>
                    <a:srgbClr val="000000"/>
                  </a:solidFill>
                  <a:uFillTx/>
                  <a:latin typeface="Corbel"/>
                </a:rPr>
                <a:t>Asking about them</a:t>
              </a:r>
              <a:r>
                <a:rPr b="0" lang="en-US" sz="1900" spc="-1" strike="noStrike">
                  <a:solidFill>
                    <a:srgbClr val="000000"/>
                  </a:solidFill>
                  <a:latin typeface="Corbel"/>
                </a:rPr>
                <a:t>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Corbel"/>
                </a:rPr>
                <a:t>Hi! How are things? How’s it going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76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900" spc="-1" strike="noStrike" u="sng">
                  <a:solidFill>
                    <a:srgbClr val="000000"/>
                  </a:solidFill>
                  <a:uFillTx/>
                  <a:latin typeface="Corbel"/>
                </a:rPr>
                <a:t>Referring to the news</a:t>
              </a:r>
              <a:r>
                <a:rPr b="0" lang="en-US" sz="1900" spc="-1" strike="noStrike">
                  <a:solidFill>
                    <a:srgbClr val="000000"/>
                  </a:solidFill>
                  <a:latin typeface="Corbel"/>
                </a:rPr>
                <a:t>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Corbel"/>
                </a:rPr>
                <a:t>Great news about… Glad to hear that…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76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900" spc="-1" strike="noStrike" u="sng">
                  <a:solidFill>
                    <a:srgbClr val="000000"/>
                  </a:solidFill>
                  <a:uFillTx/>
                  <a:latin typeface="Corbel"/>
                </a:rPr>
                <a:t>Giving news</a:t>
              </a:r>
              <a:r>
                <a:rPr b="1" lang="en-US" sz="1900" spc="-1" strike="noStrike">
                  <a:solidFill>
                    <a:srgbClr val="000000"/>
                  </a:solidFill>
                  <a:latin typeface="Corbel"/>
                </a:rPr>
                <a:t>                      Listen, did I tell you… You’ll never believe</a:t>
              </a:r>
              <a:r>
                <a:rPr b="1" lang="ru-RU" sz="19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76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Corbel"/>
                </a:rPr>
                <a:t>            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1" lang="ru-RU" sz="19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Corbel"/>
                </a:rPr>
                <a:t>what…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76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900" spc="-1" strike="noStrike" u="sng">
                  <a:solidFill>
                    <a:srgbClr val="000000"/>
                  </a:solidFill>
                  <a:uFillTx/>
                  <a:latin typeface="Corbel"/>
                </a:rPr>
                <a:t>Making suggestions</a:t>
              </a:r>
              <a:r>
                <a:rPr b="1" lang="en-US" sz="1900" spc="-1" strike="noStrike">
                  <a:solidFill>
                    <a:srgbClr val="000000"/>
                  </a:solidFill>
                  <a:latin typeface="Corbel"/>
                </a:rPr>
                <a:t>        Why don’t you..?  Maybe you could…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76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900" spc="-1" strike="noStrike" u="sng">
                  <a:solidFill>
                    <a:srgbClr val="000000"/>
                  </a:solidFill>
                  <a:uFillTx/>
                  <a:latin typeface="Corbel"/>
                </a:rPr>
                <a:t>Closing expressions</a:t>
              </a:r>
              <a:r>
                <a:rPr b="1" lang="en-US" sz="1900" spc="-1" strike="noStrike">
                  <a:solidFill>
                    <a:srgbClr val="000000"/>
                  </a:solidFill>
                  <a:latin typeface="Corbel"/>
                </a:rPr>
                <a:t>        Well, got to go now. See you soon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76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900" spc="-1" strike="noStrike" u="sng">
                  <a:solidFill>
                    <a:srgbClr val="000000"/>
                  </a:solidFill>
                  <a:uFillTx/>
                  <a:latin typeface="Corbel"/>
                </a:rPr>
                <a:t>Signing off</a:t>
              </a:r>
              <a:r>
                <a:rPr b="1" lang="en-US" sz="1900" spc="-1" strike="noStrike">
                  <a:solidFill>
                    <a:srgbClr val="000000"/>
                  </a:solidFill>
                  <a:latin typeface="Corbel"/>
                </a:rPr>
                <a:t>                        Love,    Lots of love,    Yours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476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900" spc="-1" strike="noStrike" u="sng">
                  <a:solidFill>
                    <a:srgbClr val="000000"/>
                  </a:solidFill>
                  <a:uFillTx/>
                  <a:latin typeface="Corbel"/>
                </a:rPr>
                <a:t>Name</a:t>
              </a:r>
              <a:r>
                <a:rPr b="1" lang="en-US" sz="1900" spc="-1" strike="noStrike">
                  <a:solidFill>
                    <a:srgbClr val="000000"/>
                  </a:solidFill>
                  <a:latin typeface="Corbel"/>
                </a:rPr>
                <a:t>                                 your first nam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Picture 3" descr="C:\Users\11\Pictures\Новая папка\in-writing.jpg"/>
          <p:cNvPicPr/>
          <p:nvPr/>
        </p:nvPicPr>
        <p:blipFill>
          <a:blip r:embed="rId3"/>
          <a:stretch/>
        </p:blipFill>
        <p:spPr>
          <a:xfrm>
            <a:off x="8001000" y="5572080"/>
            <a:ext cx="928800" cy="11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1328760" y="0"/>
            <a:ext cx="7358040" cy="1328760"/>
          </a:xfrm>
          <a:prstGeom prst="rect">
            <a:avLst/>
          </a:prstGeom>
          <a:ln w="0">
            <a:noFill/>
          </a:ln>
        </p:spPr>
      </p:pic>
      <p:grpSp>
        <p:nvGrpSpPr>
          <p:cNvPr id="273" name="Содержимое 2"/>
          <p:cNvGrpSpPr/>
          <p:nvPr/>
        </p:nvGrpSpPr>
        <p:grpSpPr>
          <a:xfrm>
            <a:off x="298440" y="1365120"/>
            <a:ext cx="8632800" cy="5054760"/>
            <a:chOff x="298440" y="1365120"/>
            <a:chExt cx="8632800" cy="5054760"/>
          </a:xfrm>
        </p:grpSpPr>
        <p:pic>
          <p:nvPicPr>
            <p:cNvPr id="27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298440" y="1365120"/>
              <a:ext cx="8632800" cy="50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80880" y="1447920"/>
              <a:ext cx="845820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lnSpc>
                  <a:spcPct val="80000"/>
                </a:lnSpc>
                <a:spcBef>
                  <a:spcPts val="349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en-US" sz="15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en-US" sz="15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en-US" sz="15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   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rbel"/>
                </a:rPr>
                <a:t>FORMAL  LET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326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349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rbel"/>
                </a:rPr>
                <a:t>Greeting</a:t>
              </a: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name unknown: </a:t>
              </a: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Dear Sir/Mad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349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   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name known: </a:t>
              </a: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Dear Mr../Dear Mrs…/Dear Ms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349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rbel"/>
                </a:rPr>
                <a:t>Reason for writing</a:t>
              </a: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               I am writing to.. I am writing with regards to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349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349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rbel"/>
                </a:rPr>
                <a:t>Asking questions</a:t>
              </a: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                 I would be grateful if..  I wonder if you could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349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349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rbel"/>
                </a:rPr>
                <a:t>Referring to their letter</a:t>
              </a: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      As you started in your letter.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349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                                 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Regarding/Concerning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349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349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rbel"/>
                </a:rPr>
                <a:t>Closing expressions</a:t>
              </a: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             I look forward to hearing from you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349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349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rbel"/>
                </a:rPr>
                <a:t>Signing off</a:t>
              </a: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If Dear + name :</a:t>
              </a: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Yours sincerely,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if Dear Sir/Madam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349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                                 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Yours faithfully,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Dear+name: </a:t>
              </a: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Y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80000"/>
                </a:lnSpc>
                <a:spcBef>
                  <a:spcPts val="349"/>
                </a:spcBef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rbel"/>
                </a:rPr>
                <a:t>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Corbel"/>
                </a:rPr>
                <a:t>                                     your first name + sur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3:09:56Z</dcterms:created>
  <dc:creator>Rukhsana</dc:creator>
  <dc:description/>
  <dc:language>en-US</dc:language>
  <cp:lastModifiedBy>Ch Umair</cp:lastModifiedBy>
  <dcterms:modified xsi:type="dcterms:W3CDTF">2019-03-21T06:03:31Z</dcterms:modified>
  <cp:revision>45</cp:revision>
  <dc:subject/>
  <dc:title>LETTER WRITING</dc:title>
</cp:coreProperties>
</file>